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78980"/>
        <c:axId val="37749350"/>
      </c:barChart>
      <c:catAx>
        <c:axId val="38378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49350"/>
        <c:crosses val="autoZero"/>
        <c:auto val="1"/>
        <c:lblAlgn val="ctr"/>
        <c:lblOffset val="100"/>
        <c:noMultiLvlLbl val="0"/>
      </c:catAx>
      <c:valAx>
        <c:axId val="37749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78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115-E99D-4450-8794-EB379FCE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2D6-0FB2-4695-B3E3-C86FAF4C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7ECD-402B-49CC-809D-4A5CBEB3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E90D-ECD4-468B-B380-C5EDB5B5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E28-20B2-47FB-A97A-3D53F54C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300-EEA4-4E7A-8484-7DCCB849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F10F-6AC5-44E2-9CE7-AFC45E7F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E479-4FC5-44BA-9A64-565232B0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5EA-FF85-4103-A691-1B20EE86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31E-35BF-4BA9-9AEA-9398C7B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1B3-ECAA-4AA7-A833-F5D78EBB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85E8-9C7E-4672-9BA2-70912A88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87D1C-CDBA-40DF-8570-40539749F9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