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000"/>
        <c:axId val="538734"/>
      </c:barChart>
      <c:catAx>
        <c:axId val="8090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734"/>
        <c:crosses val="autoZero"/>
        <c:auto val="1"/>
        <c:lblAlgn val="ctr"/>
        <c:lblOffset val="100"/>
        <c:noMultiLvlLbl val="0"/>
      </c:catAx>
      <c:valAx>
        <c:axId val="538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BAE-3732-4047-A3F5-92E6D5E2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98C-D8E4-4718-8E09-91299E81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623-2059-449D-9F8A-85601A71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D9F-88AB-4224-8BC3-EB135044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630-24C7-40F2-8832-B19B9C22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493-408F-4788-97F9-C3F850B8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8B7-C628-4ABC-8BC8-6064C4C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CF0-C3D7-4731-911A-679E1A2F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9AA-2C7B-45F8-B940-9A4DEFDF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0C2-51F6-4306-98A5-7961D75E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0DA-511D-4EFB-9E24-B457BA4C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8B9-8373-4B9E-BC13-5217748A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27CA4-2DA6-405F-B6B2-F5C344EAB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