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A151A5-6370-4251-BB43-5829B3E087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C0C28E-5D9B-43F0-ADA3-0308A77150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15F63E-142D-4E02-9C29-809B4D13FE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621854-5507-42E4-8160-3DEA330582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A936C12-C623-42EE-BAC6-70B41E9A4C6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0418AA-32D3-4DD5-8E4A-29071C152C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D0B588-5E18-4474-B807-9845676CE2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A0FBD8-3468-428A-8873-5D8EEA6558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335B31-1EFB-4C56-8DBD-2A385EDAD9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DF32AF-4C12-46DA-ADE6-2AB838E923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CA7B01-52AA-4A5D-BF09-F237122D66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C20B70-7D8E-46F1-92B5-0D806FAF36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126A3F-A9CF-49C1-8692-8657B22EF1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D007D9-8923-4974-99CF-CF7646842B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B84AE6-D277-43FF-8EF3-D7F3AB1AC0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0668A2D-6284-4169-8651-5EEBF595DE2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F6A366F-9E24-40CA-B621-58740AD2B50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CD0107-330D-491C-BD39-834C20B5D8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1E9A71-943E-432B-8E34-FFA1E147B7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B5DE5C-12CF-4DE9-B62E-1C1B90F113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E53F9E-503B-43FE-9BEC-6F8DF489C4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012990-6C37-48A1-81A5-19741A1D60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91F684-6BF7-4A4A-BC2B-1066CA0C75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4101E7-AA8C-46B7-B2FB-1AEB00DA29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E24B04-52DF-446B-89C2-9D93BB25DBE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A910F7-EABC-4EFB-A4E7-AB9A96A6C6D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EA08BC0-9AE9-4A53-8AB6-0854705C446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D4F4942-5421-4D21-A0AC-34672D5AE760}"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643FAB-4B00-4570-8620-E0DB64A88A13}"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94F874-7C43-480F-8832-6A43F5B43242}"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D80E5E-584B-492F-8414-F93B7BFA2E3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BB9354-30C6-4087-8C23-7B332A97ADE9}"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B23AE8-117F-435C-8575-CEC8813F2713}"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2909AD-B049-4F9D-94DF-7F7B315D8343}"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423BA8-C4C5-4972-93C1-E8EAA8B4A94D}"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629040-9CEB-4D73-ACF3-7DA6200CA7C2}"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CA3068-DCB0-4E37-A634-CFD9F2F63A00}"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3C1C79-6026-4032-82B4-37948EC91DFE}"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5E38FD-273C-4A89-9C4B-2A8B75032DEF}"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D42DE0-4EC3-4D29-AFF7-3BABFD84DAF7}"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FEB641-A2A6-4044-B227-4195412A55F5}"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E27BE0-A43A-495B-9DE7-43E2CBC997EC}"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8A7F6F-D8F7-4B42-80BB-B679393820D5}"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074DD4-2611-4C43-9555-21007522A3F8}"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BB27A0-CFA9-47EC-A4FD-395100AE4843}"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4B6222-1A2E-463A-A1F5-64BB7790E82C}"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CB96BE-135F-49B1-8910-02CDCFE256D6}"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241BD2-09F6-40BB-BED3-A01BCC80F2D0}"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86FDBE-A5A8-4D0D-BA6B-6F81025FA299}"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B5E9E1-B8D0-405E-859D-0BCE87C17140}"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BFC07E-65D0-4FC7-BC6C-7C938C3CE2BE}"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F4D7F1-5D60-44B2-A5FA-B9B74E73D8EB}"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7F711F-EC12-4DD3-9AAB-3D5A22D2572F}"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E169CEA-76FE-4818-932D-36F00FA22F55}"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EC498A-2533-4354-B66F-1EE5FECBF7B2}"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359332-CB05-4E9E-870F-206D65952B81}"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2CD94D-6058-48E0-881F-E1318349CBC3}"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19968D-9555-40A1-90C2-63F5D4B2A5CA}"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C737A9-E20C-440D-B711-79E8BE8E2612}"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DC45C4-13DE-4779-9CE9-0A86406FDA72}"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43DC57-04BA-43F4-A4DD-CD26544050F7}"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524F7C-9D49-480B-8D4B-65E52F3298F2}"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4AC685-A043-4F9A-ABDB-7BAEFE070B37}"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7DFCC4-763C-441C-A829-0500B8011224}"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381BFC-4B8A-4F63-B948-DE26F42F3C21}"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5D104B-E86E-4E1C-8853-D26E5B918D3A}"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A24D1A-0838-4301-BDC5-6D3FA816826C}"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AC0D21-A215-4FAF-92E5-25BE0A76F585}"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7AFCDA-45EF-4C18-AB77-83E6E3371424}"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752EBF-8E3D-4C0E-802E-FDACED4FD00D}"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802C1B-5F47-4BA0-B803-29C62174D4F9}"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B29297-C876-4655-8680-8E31DD74773D}"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0604FB-2C06-4ED4-9D2F-66910E2E7BEE}"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518EA9-0405-4824-9C50-5807CF93CAB2}"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865BF88-E10E-4FA5-A98B-F0673CB536D4}"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ACA764-3407-4B73-8970-03F22020DAC8}"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DE8F3A-53DB-4251-AC3D-5739D5EFFC39}"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61A4E7C-F66D-4E87-B85C-EB68B1312085}"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A5C9EE-E3B4-4A4D-BA9D-01D977FB5169}"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232D51-9BF3-4329-9B60-A94C474586FC}"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E09153-789E-45DA-98EF-CAC450C87F98}"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CE652C-499E-47DA-A3B4-CC515BE7D6CA}"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E0B654-E72A-4E8F-8409-7E3F7BD5CA6B}"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5FC69C-166D-41B3-80EF-E6BB3DFE4C62}"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E76C05-CB40-41D3-B35D-0A2EC6BBCD62}"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87FD90A-C32F-4DEF-8477-446598BFB784}"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DAF597-0451-4428-B323-1C24240927CC}"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3B068B-C5B9-4DAA-80DC-DC84678B386D}"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3FFCF1-00CD-49CA-A225-20B8FDF35F67}"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BE3F8B-1DDA-4DD3-A85D-F374749842C2}"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CF2723-BA92-4493-9C98-52A86C93FB2B}"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4353628-9C27-423D-B272-DEB24D6F396B}"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169AF7-A49C-48A0-A798-2D13F497EEF1}"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391266-528E-47FD-8BC0-8855F7A61655}"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867037-40F5-48A8-8893-BC8316FA0DFB}"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356F7C-2011-472A-BFBB-27D4E5C79491}"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D342BD4-B462-4479-A02F-C5C504BFB971}"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C13E9F-8DA7-49D3-8F2E-3064D17DD0A2}"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386E2C-D23B-4292-A01B-062CE74EABC1}"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212A20-4D88-4406-A961-B77FBE20F2B7}"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66CFCA-4854-4E28-B464-A7C22258A468}"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0D21C0-ED15-452F-BF6A-2EFF2915ECCD}"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05BCC0-F5D0-46AD-AEE5-30ACFE8E59CB}"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199EF14-6FC6-4BE8-B654-967558D018E8}"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3E70AB-AE1B-432E-88DC-B953A7C0D768}"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2FF93F-03DA-4007-993C-484AE2DCE1C6}"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58F4C7-387A-4391-B4BB-F9C67183D71B}"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C0DE17C-B58B-4E0F-BCC9-A452CB90A840}"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C29542-587E-4247-851C-F21BBAC2EF53}"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3EC4DF8-4D87-4977-8046-D390C494327D}"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0F97F4-0A4A-4457-814E-8F1DDB1C8D0D}"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5699DB-A08A-4379-B6F6-7502B03C1FD3}"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046B80-522C-4364-8D79-E5619EB8CF3F}"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458914-ACF0-4306-BD4B-5A5FFFF8890F}"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6FA489-1079-4CB6-BC67-13661E3EAAF4}"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6E53B2-1CD0-4F7C-B70A-50BA8E3A96B5}"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CF31EE-82AC-4E55-84E6-B930CEF92BB5}"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9C76F9-44B4-4060-8111-AB6D1F206CE7}"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FD5DB0-0D3F-4188-99B0-23B088AC26BD}"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496474-466C-4A9D-95AB-86C9A8625CE8}"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E8F3FE-8A86-4422-ACE0-7CF70F37756E}"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4C7F60-AAF4-4E57-9971-C15E1321224E}"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178739-D054-493A-ACB0-9B81B979853F}"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BE0793-652A-40F0-B14F-1C154B274F06}"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6DB542-A9B7-44CE-8C4C-21678B408292}"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BF3D0A7-C2A1-4B3A-AC9D-83BB407DE247}"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86C253-FA2F-4AE7-92BE-6D9603D601C4}"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299A69-10B2-4560-BE74-EE7A7939675B}"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9F9E00-064B-4CB2-A4BF-7215B6DDD92A}"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F6A3E7-B80E-4ECB-9689-35FF17CB7483}"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6B4E7B-EDC6-4E55-97AB-D2D4289816DB}"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23D314-0ADF-49E8-92BB-FB92508345F5}"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70C44E-8E91-4D43-BE3F-80D279B6BE48}"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CF8AD6-6D25-4FF7-B59B-1622C59FDA44}"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BA2954-2216-4618-9F9B-DC3A358D5DBA}"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8D0442-7B1A-425B-B15E-16D6C777BA21}"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BD41E8-7734-4535-9492-8C012EBE21F0}"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4A6B9D-05CA-4DD0-BF05-6C67AFA9B59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7466D2-5AE2-46BD-9225-D36A2B747BAA}"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F6200C-F02B-4F3B-87BB-1BCDEBBDB656}"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69A28F-FC0A-4F69-99C0-27E1B9577285}"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B77F7F-1340-490D-8E51-F9DF0C0D67C9}"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A43231-3474-41AC-AC58-D684827E0D59}"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0BFFA4-4AB3-431D-BDCF-8B95F20D7C52}"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0B1131-4EE5-41AD-AC50-B5E2A4FBB61B}"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DB74D2-2A14-4D4A-A499-8CC135825C11}"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F4821B-D664-4DB5-AE71-DA32BD27AE7A}"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F3E71D-31AE-4947-913C-FEBC4F78D95F}"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F20A23-82CA-497C-9EE2-1493E55DA30C}"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FA0A6B-8398-4D2A-94A9-310AC415811B}"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BE84D7-691E-4D78-A7BA-7435C5CBA111}"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33FD01-C192-4C9E-9293-01B69FB552F8}"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F45166-312E-4A3A-B7EA-5A5A8B29B2DD}"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1C57B57-631D-4DD2-825E-A43CA5F425BE}"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875B6F-D876-4838-A5F4-B4C96BE7EFB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13B230-A19E-49D9-9D25-90943536DD4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977E0C-B4BF-43D6-A695-6356F681188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1FC60E-E768-4DDD-8CEF-4C6A7E28C2B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AD90C4-3CC7-4306-BCAE-07B12B572AC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1A921B-B7E0-4B4F-BDDC-F1E7E91AA41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815638C-5013-4C5F-8790-71CF2274B11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8CC993-5080-45FA-B53D-C5E302E2EF1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CFA305-576E-4FC1-AE26-7A9F6462319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882D33-1AC3-4FF3-8B9E-4C0FD3A3BE4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682E5E-AD4D-4989-80FD-CC0966B6C4B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702E95-1488-42FE-94A8-3820E29CC91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55277E-3512-4EE7-A942-4EE73148629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07824A-0304-47C8-964B-3DB819847F5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FB5076-7A21-4D35-92D8-B86F899B7A5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63AD24-63B2-46EA-81CF-4EAA95DD489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276766-40C0-4F5F-82BD-9F135384171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C73264-B716-4E52-A0FE-955A5804D6C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7DC69F-8F24-4D61-B262-2EE709414C7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3F94E2-F758-4719-B58C-CCE49355662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DD58FC-2153-49DA-B761-E8395521E5C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054383-07B9-4A41-A18F-8E859A9F3AC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311884-CB69-42DA-AD8D-781BED8894F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D39620-0FE0-4BFA-8152-15FC2E10F63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31E781-93AB-4D52-8281-53A4024DB54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2FC637-4A90-410F-AB01-53C3F3C0591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4F3D0C-92B9-4C9A-A94B-09ED925DBE5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5965B5-D14E-4660-8F12-D683C3BF177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0BB01C-E0C6-4B40-BBE4-166500186A7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8CA3C8-0A14-488F-B3B9-AEC59FD0698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4DAD20-33D2-4464-887B-D25FB055249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0F20F4-4561-4B57-9CF7-B19249BBDBA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0C755D-0656-4940-9BCD-3B9AEAEF542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E6B2A3-AE07-4667-BCB4-624BE096D55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9AE9E6-C6F9-40D8-B52B-B0DCA4E1847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8F9CA2-1908-47FE-82A5-7A3A2049203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211D68-0B3D-4C5D-82DA-C2225CC4B49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2111D7-CB8F-4BBD-BBB3-7583940D4F7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8A6BA2-B01B-4181-ABF2-5E0E6E570585}"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81FD23-58CC-489E-A0C6-8D2365A6ECC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090CFF-D26F-49EB-90E4-0AF88D25EFD6}"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E58E68-DEE9-4885-B812-4B75D245E89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535EF0-7F02-43F1-9538-EFAA531F39D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C0FD01-2954-4E7F-AC2D-E1ADD992611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26F6F4-0F5A-410C-8B06-509253D13DB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1BDCF0-E5D7-4A6D-B101-EC942725FB7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66793A-9E83-417E-B580-C184A8FBEA68}"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291C100-64BD-49B6-8ADC-35C89D8AFC2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3F8EE4-78F5-4D81-A059-60F2F48B567E}"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83AF86-8AC9-4143-82B1-A8C7CCBE546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551B8E-B5A2-4886-9BCC-A6D1B6547D8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7F2A89-7E1C-483D-832D-AD60A21C7AA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755B71-EDDC-46D1-8FC2-F5EA3D6E4E1A}"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FCB416-3F91-43A2-8F49-C384FB8D3AE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4EDE12-7AF5-438D-8AFF-36A598F2A11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8930BC-1229-4529-AC71-86CD489F719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F0D1E36-DEC0-4D66-8B2F-B06A5A8C77BB}"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73E509-26CF-4BC0-9E05-FF9699543F9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CC9FF4-7232-4594-AADD-B2E80260CA66}"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EA34D2-D830-433C-A865-EFC0CFF3710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E77755-2572-424F-B48F-889642BADEDC}"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DA590E-EE5C-4EDA-8062-34DB1A3583C8}"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CACEE0-8B3B-42C2-9329-C36009ACCCF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5198CA-7CB1-4095-A091-8728BF5B6003}"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292369-7FB0-489B-A9D5-3F112A80AEE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BC1487-77EE-493B-AC89-4F5BDC724E85}"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3AC269-B9D8-475B-8CCD-0CF9EE9B736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C1730A-7F3F-4B0B-B504-43D2A48346D7}"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C16F64-22EF-4E01-9B7F-74975FA8B60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498D31-DCC4-4880-8A26-B730349EECE6}"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EE5FBE-3448-46CB-A747-7A82CCF00F81}"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6406417-7212-48DC-BFBF-A10B2EB90C5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C87BDB-E8D6-4EC8-8726-6D9C69017093}"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A5D1A9-B32D-499D-B5A2-22BC5F0BF19F}"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B3CF9C-A6CB-4D41-BB61-5DAA53F252C6}"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26F732-E5ED-40C7-8441-F367963824E5}"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9D6AC9-4E6C-4AE3-B341-E290FD8A15CB}"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A139D0-802B-4E95-93F1-CFCE11E522FC}"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C8C972-A8A3-48E7-897C-DB1C2FCC863A}"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102D64-DF67-4A34-84A7-5272081A081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03527D-52F4-4829-AB0B-8D04F4DE75F1}"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7C7801-0D46-4F1E-9CC7-F18EA0BA7A76}"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9CF4C9-F921-4DA7-B2C4-6D3BC288E4F6}"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893A02-329C-4F02-9381-CC8E4422A385}"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88BDE9-D4B1-4E01-8F46-2F489673822F}"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